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8D7-3F53-414B-BC81-4C0EC8D3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369-902E-460C-BEF5-93683F4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966-EB40-4190-A83E-58DCF6A9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587-AF9F-41F5-B319-000526C8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B12-9548-4210-A7CD-7132B622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3A9-A40C-4E8D-B1AC-7F1274C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2AE-0520-4B6C-8933-87D0008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266-B240-4DC6-A905-710FC44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82E-E268-4D49-B43C-A68239D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9BF-8792-46F3-9CB4-882DAE0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678-7D85-40A1-8CCD-0159E27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9FD-8D42-435C-9189-7CB81866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A7D7-3673-49D8-922C-1AD89B45357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207180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"Волшебные десятичные дроби" </a:t>
            </a: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в 5-м класс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" name="Рисунок 3" descr="888.jpg"/>
          <p:cNvPicPr/>
          <p:nvPr/>
        </p:nvPicPr>
        <p:blipFill>
          <a:blip r:embed="rId1"/>
          <a:stretch/>
        </p:blipFill>
        <p:spPr>
          <a:xfrm>
            <a:off x="285840" y="214200"/>
            <a:ext cx="214308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785680" y="285480"/>
            <a:ext cx="60721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чебный проект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сказка про десятичные дроб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городе, где жили дроби, такие, как (12/10), (289/100), (1872/10000), (5/100) и вообще с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ями 10, 100, 1000 и т.д., все жили очень дружно. Никто никого не бил, не обижал и никто н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порил. В этом городе были красивые дома, а на окошках стояли красивые цветочки. У каждой дроби бы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вой дом и сад. В саду росли наливные яблочки, вишенки, груши, а ещё разные цветоч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ыли там также и школы. Туда ходили маленькие дробики, со знаменателем 10. Были и взрослые дроб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 знаменателями от 100 до 100 000, и совсем старые, со знаменателем от 100 000 и до бесконечно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зрослые дроби бегали на работу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OKSVAdrobi2-1.jpg"/>
          <p:cNvPicPr/>
          <p:nvPr/>
        </p:nvPicPr>
        <p:blipFill>
          <a:blip r:embed="rId1"/>
          <a:stretch/>
        </p:blipFill>
        <p:spPr>
          <a:xfrm>
            <a:off x="6357960" y="5143680"/>
            <a:ext cx="2405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, а старики и старушки весь день сидели в креслах-качалках и читали книги, а иногда шлепали п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пкам дробей-малышей за непослушание или шалости, или читали им сказ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нажды на город напал Штрих со своей армией. Он беспощадно убивал всех, сжигал дома, грабил их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сять лет длилась война. Побеждали то одни, то другие, но выиграть войну никто не мог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 один добрый Волшебник помог беспомощным дробям. Он погасил горящие дома, вернул награбленно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прогнал Штриха проч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шь один вопрос волновал Волшебника: “Как же вылечить пораненные дроби?”. Он долго думал 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конец, придумал. Вместо дробной черты он дал дробям запятые, убрал знаменатели, а таким дробям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1/100, 32/1000 и т.д. добавил после целой части справа 1, 2, 3 и т.д. нулей, смотря сколько их было 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наменател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Обоснование значимост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С десятичными дробями учащиеся пятого класса встречаются впервые. Они должны научиться оперировать с дробями так же хорошо, как с натуральными числами, понять значимость этих чисел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Адресация: Данный проект целесообразно использовать при изучении темы “Десятичные дроби”, (математика 5 класс)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Образовательны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родолжение работы по формированию устойчивого интереса к математике и к внеклассным формам его углубленного изучения. Изучение десятичных дроб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оздание условий для отношений сотрудничества между учащимися, а также для индивидуальной работы; формирования чувства ответственности за порученную работу; умения слушать и слышать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Развивающие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учащихся (воображения, наблюдательности, памяти, мышления); Развитие самоанализа и рефлексии; Развитие способности выявлять причинно-следственные связ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Из истории десятичных дроб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явились десятичные дроби в трудах арабских математиков в Средние века и независимо от них в древнем Китае. Но и раньше, в древнем Вавилоне, использовали дроби такого же типа, только шестидесятеричны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озднее учёный Гартман Бейер (1563-1625) выпустил сочинение “Десятичная логистика”, где писал: “…я обратил внимание на то, что техники и ремесленники, когда измеряют какую-нибудь длину, то очень редко и лишь в исключительных случаях выражают её в целых числах одного наименования; обыкновенно им приходится или брать мелкие меры, или обращаться к дробям, точно так же астрономы измеряют величины не только в градусах, но и в долях градуса, т.е. минутах, секундах и т.п., но мне кажется, их деление на 60 частей не так удобно, как деление на 10, на 100 частей и т.д., потому что в последнем случае гораздо легче складывать, вычитать и вообще производить арифметические действия; мне кажется, что десятичные доли, если бы ввести вместо шестидесятеричных, пригодились бы не только для астрономии, но и для всякого рода вычислений”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егодня мы пользуемся десятичными дробями естественно и свободно. Однако то, что кажется естественным нам, служило настоящим камнем преткновения для учёных Средневековья. В Западной Европе 16 в. вместе с широко распространённой десятичной системой представления целых чисел в расчётах повсюду применялись шестидесятеричные дроби, восходящие ещё к древней традиции вавилонян. Понадобился светлый ум нидерландского математика Симона Стевина, чтобы привести запись и целых, и дробных чисел в единую систему. По-видимому, толчком создания десятичных дробей послужили составленные им таблицы сложных процентов. В 1585 г. он опубликовал книгу “Десятина”, в которой объяснил десятичные дроби. Обозначения Стевина не отличались совершенством, так же как и обозначения его коллег и последовател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Вот как бы они записали число 3,1415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. Стевин  3 0 1 1 4 2 1 3 5 4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Й.Х. Бейер 0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Ι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  1  4   1   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. Жирар 3|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1415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Стих о десятичных дроб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57160"/>
            <a:ext cx="3114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не простые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знаки не пуст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Мы дроби десятичные,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зможно и привычные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Если правильные мы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Слева нас стоят нули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ямо перед запятой –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Этот знак ведь непростой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,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всегда она нуж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Вот пример вам: если вдруг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аписал ваш лучший дру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Про единицу, что она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Одной десятой равна.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о ведь это так ужасно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И старался он напрасно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Дети, помните всегда: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Запятая в нас важна!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6" descr="2.jpg"/>
          <p:cNvPicPr/>
          <p:nvPr/>
        </p:nvPicPr>
        <p:blipFill>
          <a:blip r:embed="rId1"/>
          <a:stretch/>
        </p:blipFill>
        <p:spPr>
          <a:xfrm>
            <a:off x="214200" y="3929040"/>
            <a:ext cx="2013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920" y="571320"/>
            <a:ext cx="5114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вот ещё правило, оно не сложн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в конце десятичных дроб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ули отбросить иль их припис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а хоть всю тетрадь нулями исписать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обь, равная данной получ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к зачем же тогда мучиться?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дроби десятичные сравн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много и не надобно уч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исло знаков десятичных уравня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 одной из них справа нули при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, отбросив запятую пот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авое с левым сравнить числом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 нас вычесть, иль сложи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не следует спеш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0" y="285480"/>
            <a:ext cx="4114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ут совет мы можем да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руг под другом нас запис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пятая чтоб была под запят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складывать надо т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будто нет их ни одн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А потом обратите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 можно без особого стар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м в самом конце, в ответе её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осто поставить на место своё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еперь, когда вы всё о нас знает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многое теперь понимае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мните, мы дроби десятичны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ам, наверное, привыч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И все же, приступая к решени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думывайте всё хорошеньк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6" descr="2.jpg"/>
          <p:cNvPicPr/>
          <p:nvPr/>
        </p:nvPicPr>
        <p:blipFill>
          <a:blip r:embed="rId1"/>
          <a:stretch/>
        </p:blipFill>
        <p:spPr>
          <a:xfrm>
            <a:off x="214200" y="1000080"/>
            <a:ext cx="25718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8:43:14Z</dcterms:created>
  <dc:creator>26526</dc:creator>
  <dc:description/>
  <dc:language>en-US</dc:language>
  <cp:lastModifiedBy>26526</cp:lastModifiedBy>
  <dcterms:modified xsi:type="dcterms:W3CDTF">2010-06-04T11:44:21Z</dcterms:modified>
  <cp:revision>8</cp:revision>
  <dc:subject/>
  <dc:title>Учебный проект </dc:title>
</cp:coreProperties>
</file>